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84C1-8BDA-4849-81D8-F00D84FE8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ing resource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an agent is too “fat” to migrate onto a particular no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co-proces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ster scenario: coordinating things all over the country or world.  Involves many different organiz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ative nature of service-oriented paradigm is important: Scripts just declare what they want, and the system finds the services that fulfill these nee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 Rock does not support dynamic application deploymen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Web and IrisNet do not focus on computing within SensorNets or application deploy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et does not have service provisioning for dynamic service binding. Tenet scripts assume that the instructions they execute exist.  The current implementation of Tenet assumes a homogeneous platform -- all instructions provided are kn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ite version of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57A2-48B3-4EE4-B1A5-0CF1BEC7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21C2-E9CD-4C63-A0A7-CA65418D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9AEA-62E9-4AD2-987C-F3D080D94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4D83-B31F-4FBE-9BE5-83A441BD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3EA9-298D-4192-BE7E-4D72CA70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9FB3-02D0-429D-A8DC-0E5292F4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8C9E-0405-4D9E-815A-D7B740F4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DF83-3BA3-4BFF-8F3C-545030A5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EEEB-E6A6-4814-8DF7-16E92A5F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FB8C-C891-4D20-BFE4-5E554B92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607D-3BAC-42A2-843B-F2AC475E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BAA7-AB39-4164-83E3-186E8924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8F18-8246-408E-A40F-E83CFB27B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wards a Flexible Global Sensing 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1760" y="35053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en-Liang Fok, Gruia-Catalin Roman, and Chenyang 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8800" y="5638680"/>
            <a:ext cx="551196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6987-4ABB-42BB-9704-AB85D8FCFAE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: Resourc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of service for concurrent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ying resource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tery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69C8-0545-47C0-BC12-59DFB46A34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: Run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 &amp; intra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ipts must react to changes in their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 range of event types, sources, priorities, and usage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Dis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resources prevent hosting every service lo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service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te/local persistent/transient 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3E9A-7035-42EB-9A51-5C1B5637EF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tatus: Progra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Description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ipt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23760" y="4038480"/>
            <a:ext cx="77486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requi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ireDete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 serv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rv; // a handle to the servic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 void main()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    bind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GER | PERSISTENT, THREE_HOP, serv, FireDetec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onErr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(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     while (true)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         migrate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RandomNeighbor(), STRO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lea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Fir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oke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onErr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(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     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56080" y="2184480"/>
            <a:ext cx="2250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ype = senso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 = temperatur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units = Celsiu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rror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±0.0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A061-DF56-49C6-B08C-D62882574D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tatus: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5029200" cy="426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Agilla’s VM to support mobile scripts &amp; service inv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a service provisioning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ed on Tmote Sky test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D8FF-3C21-46DD-95EE-96B52DA282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d SensorNets are evolving into a G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 software architecture is required for building flexible GSI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proposed three-tiered service-oriented computing archite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eb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level platform-independent mobile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-level platform-dependen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hallenges re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EF29-5079-4D8B-93CF-DCF99F452C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Nets are evolv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oftware architecture does not easily facili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of new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flex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ving global sensing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50800" y="2378160"/>
            <a:ext cx="18288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-scale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ogeneou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-speci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5880" y="2378160"/>
            <a:ext cx="18288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-scale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erogeneou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l 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29113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8360" y="3444840"/>
            <a:ext cx="178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isting SensorN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53400" y="3444840"/>
            <a:ext cx="188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global sens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 (GS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97160" y="2606760"/>
            <a:ext cx="131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olving i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7162-7922-4210-B636-8C87919D28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Sensing 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llection of sensors, microservers, base stations, and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ous and continuously ev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by many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257800" cy="258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75D0-73EA-4B27-B4B5-61C0BA25D0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Example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upply chain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s attached to products, cargo containers, loading docks, ship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different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disaster scenario 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heterogeneous and dynamic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s many organizations and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program GSI to help victims and coordinate respo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E8FE-D70C-4E7B-923F-D1C2EE697B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Proposed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new software architecture based on service-oriented computing &amp; mobile scr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b services: global 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active platform-independent mobile scripts: dynamic application deployment in Sensor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fficient platform-dependent services: flexible service 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ve service-oriented programming paradigm enables seamless integ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y application development on evolving &amp; heterogeneous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70C9-1EDA-4150-A8AE-9B07A90851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 Rock Corporation [Woo, Sensys’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 SensorNet nodes to the external world as a web service using existing standards (WSD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upport mobile scripts (dynamic deployment of apps) for programming inside Sensor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eWeb [Santanche et al, IPSN’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eb portal for integrating &amp; viewing data collected from a Senso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isNet [Gibbons et al, IEEE Perv. Comp.’03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stributed database for WS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et [Gnawali et al, SenSys’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iered Sensor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Net has a fixed and uniform instruction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79CE-2A48-455F-BB7D-8A6F3FDCB4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rglass 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neidman et al.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rvard TR’0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frastructure for connecting SensorNets with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es on data routing and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VM [Levis et al, NSDI’0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VM with a custom instruction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provide dynamic service 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S + DVM [Balani et al, EmSoft’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M with dynamically loadable binar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binding between script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ete [Yu et al, SenSys’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Application support within Sensor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quality of service prov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643B-7A0E-4609-9931-8DFD0BC8F3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Software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on engine (VM for mobile scrip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loyment &amp; execution of mobile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or distrib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managemen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7C33-02FA-469A-A4AC-FC6A7E2767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: Progra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ce Heterogene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cefully handle error conditions like when a script invokes a service that is not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Description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ct, exten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iotemp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erogene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boundary between script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AC42-D270-420C-AFA7-C369D1E0E6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2:14:55Z</dcterms:created>
  <dc:creator>Office 2004 Test Drive User</dc:creator>
  <dc:description/>
  <dc:language>en-US</dc:language>
  <cp:lastModifiedBy>Office 2004 Test Drive User</cp:lastModifiedBy>
  <dcterms:modified xsi:type="dcterms:W3CDTF">2007-04-24T08:28:09Z</dcterms:modified>
  <cp:revision>32</cp:revision>
  <dc:subject/>
  <dc:title>Towards a Flexible Global Sensing Infrastructure</dc:title>
</cp:coreProperties>
</file>